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A76-E5DD-4CE5-A059-4D291F0D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BB1-64B6-44CE-AAD9-1E73CFB0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227-C493-48FD-8B3C-F2CC87CE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B78-D104-4D07-A9B5-87B48F98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D45-EF48-4C2A-92D4-9AA5A520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4AE-2608-41B1-8B46-32AEF179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D857-A049-4E24-9610-A87E20D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AA32-E491-4601-AA62-3EC905B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09FE-59EF-4415-A143-A2C5110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E65-D3B0-4E2D-AA7C-28EB0656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FF67-CAF9-4005-9140-127748C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D22-BE7E-41D6-99F3-6AAAB29C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F28-D12D-49CF-8FD1-3E4C19A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702D-08CB-4200-B8B7-165C097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D52F-AF1B-404E-9803-A93F941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93A-FDF8-47E6-95DA-33429FFD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CEF2-A7EB-4ABC-A5CE-51350CA5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57C-ECE1-4085-80CC-9603F08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AAA-0BED-4BF3-A2E4-F4051B46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EE3-80B7-4689-BD96-946A38A1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0FB-D545-421C-820E-CD1F9A1C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439-88C9-4421-AF62-F527D82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843-DE27-491A-9AC4-9B04A46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AAD-2687-4DF6-B64B-B102B4D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BD05-DF46-47A6-9806-96CA71FDDC0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5CF-A507-4300-8E25-CE8C7A50826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384360" cy="23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3168720" cy="2111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916360" y="836640"/>
            <a:ext cx="3313080" cy="220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3168360" cy="2109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5219640" y="4292640"/>
            <a:ext cx="3168720" cy="2109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Social codes and the behaviour in a foreign count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iv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432240" cy="305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590920" cy="2424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284720" y="3284640"/>
            <a:ext cx="2465280" cy="3282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020000" y="508464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throom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940360" y="5516640"/>
            <a:ext cx="1008000" cy="21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ke a ba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392360" cy="2144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2792160" cy="1954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207792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ns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8320" y="2489040"/>
            <a:ext cx="403848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sking for the w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ord “n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’t want to recognize that they don’t know the answer </a:t>
            </a:r>
            <a:r>
              <a:rPr b="0" lang="en-GB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afe their 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en you are i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low your n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133720"/>
            <a:ext cx="4114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nuff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1844640"/>
            <a:ext cx="1295640" cy="122256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284720" y="4292640"/>
            <a:ext cx="2808360" cy="1870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808360" cy="1870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212400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5164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n a business tri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608720" cy="3068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2421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usiness c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316400" cy="2865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ke your card with 2 hands on the upper co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b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’t put it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japan-infos.de/japanreise/verhaltensregeln-jap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houbu.de/jap_regeln.htm#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de.wikipedia.org/wiki/Soziales_Verhalten_in_Japan#Gef.C3.BC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de.wikipedia.org/wiki/Kultur_Jap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18394"/>
          <a:stretch/>
        </p:blipFill>
        <p:spPr>
          <a:xfrm>
            <a:off x="611280" y="476280"/>
            <a:ext cx="4032000" cy="2635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2781360"/>
            <a:ext cx="4392360" cy="2932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ifferent gree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de of behavi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if you don’t follow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resp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ing of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guistic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ow to behave in special situ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for th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’re 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n a business tr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oice of the s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90560" y="223920"/>
            <a:ext cx="7473240" cy="6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r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306864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normal“ holiday tr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 so b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Japanese understand &amp; consider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2920" y="2997360"/>
            <a:ext cx="40388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business tr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e to now all the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make a mistake they won’t show you underst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916280"/>
            <a:ext cx="7924680" cy="6397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if you don’t follow the rules you’ll</a:t>
            </a:r>
            <a:br>
              <a:rPr sz="2800"/>
            </a:b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lose your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9079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02200" y="167760"/>
            <a:ext cx="745308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showing of resp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with “higher level” is shown the maximu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respect. Those with a “lower level” have to ac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him like he’s a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n’t allowed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safe his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help him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linguistic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prefixes which show the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ha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for children or for women when i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s from a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a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olit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sed for persons in the same ag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eagues in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ensei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most polit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sed for the persons with the hig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vel, important perso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2915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hysical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how the respect in a physical way they b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greet so., to say goodbye and thank you a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sk for s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°: to greet a good friend or so. with a lower lev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a head his employ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°: to greet 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 same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°: polite, to ask for s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5°: really polite, to apologiz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mistake, or greet your bos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4858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how to behave in special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e a b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k for the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’re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e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4753080" cy="356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2152800" cy="2152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16160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00720" y="191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op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42:30Z</dcterms:created>
  <dc:creator>Patrick</dc:creator>
  <dc:description/>
  <dc:language>en-US</dc:language>
  <cp:lastModifiedBy>Patrick</cp:lastModifiedBy>
  <dcterms:modified xsi:type="dcterms:W3CDTF">2010-12-02T02:06:44Z</dcterms:modified>
  <cp:revision>5</cp:revision>
  <dc:subject/>
  <dc:title>Social codes and the behaviour in foreign countries</dc:title>
</cp:coreProperties>
</file>